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EA9C-6CD8-4404-884D-79F29DC2FD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9153-F1BF-479D-B49C-E775419681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11D-BE56-4FA2-9807-CABDEFD3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5EE-397D-4238-A4AA-92190E01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62F-E823-4A88-AABD-8A5D2526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402-B68E-4F2C-B590-D8AAA508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31D-6CEE-4E9C-A25D-EF4A86FB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AB0-F3D3-43C7-8F57-B734770F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77B-5C36-4DAA-BF84-BAA28F41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AAA-985D-4115-8B97-58276A6C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C77-B212-40D3-B61A-4112C317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2F4-1DC8-4E2C-AC5D-7E593180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F1B-7C6B-4DE8-AA11-C6D91FE7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CFF-430E-4066-A097-3EEE208A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B1D8-0A89-483C-B466-52391F70182A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Stopping_food_waste,_one_picnic_at_a_time" TargetMode="External"/><Relationship Id="rId2" Type="http://schemas.openxmlformats.org/officeDocument/2006/relationships/hyperlink" Target="http://www.feeding5k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-133200" y="36360"/>
            <a:ext cx="953928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/ How many people could you feed with 750kg of vegetables?                                               60/600/600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/ How many people go hungry in the world at the moment?                                    1 in 4 / 1 in 8 / 1 in 1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/ How much food is wasted in Europe per year per person?                                   179kg / 257 kg / 346 k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4/ How much food in total is wasted in the whole world per year?                  1.1/1.3/1.5 billion tonn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5/ How many people in the world can’t get enough food to live?     about a million / a billion / a trill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280" y="549360"/>
            <a:ext cx="820908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Read the article to check your answer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6b9f25"/>
                </a:solidFill>
                <a:uFillTx/>
                <a:latin typeface="Book Antiqua"/>
                <a:hlinkClick r:id="rId1"/>
              </a:rPr>
              <a:t>http://eewiki.newint.org/index.php/Stopping_food_waste,_one_picnic_at_a_tim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 Antiqua"/>
              </a:rPr>
              <a:t>And find out about the movement: </a:t>
            </a:r>
            <a:r>
              <a:rPr b="1" lang="en-GB" sz="32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www.feeding5k.org/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3851280" y="4005360"/>
            <a:ext cx="390672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9:31:36Z</dcterms:created>
  <dc:creator>Linda Ruas</dc:creator>
  <dc:description/>
  <dc:language>en-US</dc:language>
  <cp:lastModifiedBy>Linda Ruas</cp:lastModifiedBy>
  <dcterms:modified xsi:type="dcterms:W3CDTF">2014-05-26T19:15:58Z</dcterms:modified>
  <cp:revision>12</cp:revision>
  <dc:subject/>
  <dc:title>How to stop food waste</dc:title>
</cp:coreProperties>
</file>